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1E7-6F2E-4AA7-A512-73D50AFB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7E6-E92E-4D39-B352-35DB4E668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B37-6849-487C-AD9A-B982F2BA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B9F-AC12-45AA-B932-E44F8B2F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618-993C-4F25-887D-08B5ECF4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3E4-3F72-4A23-B209-7010447E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D2A-F389-454D-BCC1-6C9885569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02BE-F4FB-431C-928B-1BC3B8CD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92B4-3CB4-4CA2-9340-BA9ACF64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0AF-63AC-42CB-BC1D-673FDD4B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B02-0A18-4A32-B864-67F130F0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EA1-1016-4444-95FB-8B7002D6A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8DE-0A8E-4729-8CCC-22138BE6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35E-2532-4CE5-9F73-7CC4B0EA2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5A41-E836-42F5-980C-E21ECEBDD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CBC-D07F-4634-8A77-0F713E7DD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F009-AD0F-4605-BD7F-DB73B295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3CB2-D58B-43AF-BA45-85EF441F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E31-CCFA-49FD-8D23-6EE3EC48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1856-A53B-4863-8923-F2B8ECC3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E452-17DA-4C34-ABCA-431E437C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5EB-66F8-46AF-8C48-DB4A6ECA2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96C-9D14-4A29-ACBA-82A28C9D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893-2611-4A24-9A82-0C71B920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211-BC95-4F3F-8321-9DE92C40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5D8-46A4-4C4E-87AC-5040F45D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D0A-A8C2-47DD-8EE7-B5B907B0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F5D-94BD-48D3-A75A-D17FB73A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B9F2-16F5-4C5F-9CAF-F05D9410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FE07-881C-49EF-B38E-27FBF84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2CD-6E1E-4B5F-BCF6-FD820C3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C0F9-EC85-4D93-B5E9-8C2CF1A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1D96-8074-47B2-8DB7-1A2AE6A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4F46-4043-43E7-889C-CDF8244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99E-52BF-4F6A-9874-0103B3A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E68-9EE0-47F4-8513-AA885688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97DA-D9E6-4DCB-A486-9FAE9F4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08C-5CE0-42A8-9434-9831FBD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C497-8A8A-4463-87F2-769B857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473-F667-492F-9596-331F1163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72D-B217-403D-A715-9651F27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D9C-833F-4ACE-9C78-E151B40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850-033F-47D0-AE14-6B78081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2D5-3403-4CC5-9254-ACB9875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DC1-7583-47D8-9F26-2DF18B0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6C1-AEA9-4EBC-9D0A-DADBAF5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AD5-66A3-4461-AC04-D7DC673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ABA-2A13-4F66-8422-255E5EC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B10-DBA2-46F5-A032-02443C2811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D7DA-D57D-4059-9952-C5A70B2DC4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The Science of Biolog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ology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3. Form a Hypothe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Based on the research you have done, write a possible answer or solution – your best educated guess – to your ques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819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4. Design an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trol Group: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Part of your experiment that is not varied in anyway.  You can compare your test groups to this set standard grou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Independent variable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e change/difference </a:t>
            </a:r>
            <a:r>
              <a:rPr b="0" i="1" lang="en-US" sz="2200" spc="-1" strike="noStrike">
                <a:solidFill>
                  <a:srgbClr val="0000ff"/>
                </a:solidFill>
                <a:latin typeface="Book Antiqua"/>
              </a:rPr>
              <a:t>you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 make in the experiment (the thing you are testing). Also called manipulated vari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Dependent variable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- The differences that result from the experiment, the resulting effect. Also called responding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stants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ings in the experiment that do not change, kept exactly the same for each test group so they do not affect the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81900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5. Data/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t is easier to understand the data if it is put into a table and/or grap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ake sure all data is clearly labeled.  Charts and graph should always include units and ti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en graphing the independent variable should be on the x axis and the dependent variable should be on the y 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6.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was expected?  What was unexp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trends did you notice in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7. Conclusion or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432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ndicate whether or not the data supports the hypothesis and explain why or why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possible improvements to the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further avenues of research or uses for the information discov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nfere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teps of the scientific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step would you find charts and graph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n independent variable and a dependent var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a control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it mean to have a controlled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1-2 An Example of</a:t>
            </a:r>
            <a:br>
              <a:rPr sz="3600"/>
            </a:b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 Science at 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bserved: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ometimes organisms just “arose” from nonliving things: eg. maggots came from m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Question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How do new living things come into be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ypothesis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In some cases, nonliving objects can spontaneously generate living org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xperiment- 1668, Francesco Re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at in covered and uncovered j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posed a new hypothesis:  The maggots came from eggs left by flies on the meat that were too small to 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cluded: Maggots came from f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62120" y="1219320"/>
            <a:ext cx="7465680" cy="4514400"/>
            <a:chOff x="762120" y="1219320"/>
            <a:chExt cx="7465680" cy="4514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768960" y="1250280"/>
              <a:ext cx="7458840" cy="448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762120" y="1219320"/>
              <a:ext cx="73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SERVATIONS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ies land on meat that is left uncovered.  Later, maggots appear on the meat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9320" y="1482480"/>
              <a:ext cx="328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POTHESIS: Flies produce maggots.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78680" y="173196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776520" y="2619360"/>
              <a:ext cx="19090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rs, type of meat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tion, temperature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778680" y="3645360"/>
              <a:ext cx="19958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ipulat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ze covering th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eps flies away from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3049560" y="204912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078240" y="204912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4831920" y="3229560"/>
              <a:ext cx="986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veral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s pass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2847960" y="482904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6081480" y="482904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782280" y="4588200"/>
              <a:ext cx="23997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ding Variable: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ther maggots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ear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762120" y="5226120"/>
              <a:ext cx="7338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7480" indent="-125748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LUSION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gots form only when flies come in contact with meat. Spontaneous generation of maggots did not occur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144000" cy="50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Redi’s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cience continues...New Ideas with new discover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New discovery!- tiny microorganisms (discovered by Anton van Leeuwen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Mid 1700s, John Needh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peats Redi’s experi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s hypothesis: Spontaneous generation can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nder the righ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: microorganisms appear in sealed flask of boiled gra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Science Experiments are always repe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Lazzaro Spallanza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nks Needham did not boil gravy long enough to kill existing micro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s: When left exposed to air, microorganisms will appear in boiled grav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e concluded that microorganisms could not come from gravy but appeared instead from microorganisms existing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Observing the Worl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If you are a thinker, you question things you observe and may not understand and you try to find an answer.  There are many ways to find these answers.  If you are a scientific thinker you find your answer using the scientific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5d32"/>
                </a:solidFill>
                <a:latin typeface="Book Antiqua"/>
              </a:rPr>
              <a:t>Why is the sky b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Spallanzani’s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20760" y="1600200"/>
            <a:ext cx="5021280" cy="4690440"/>
            <a:chOff x="1220760" y="1600200"/>
            <a:chExt cx="5021280" cy="469044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353700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5"/>
            <p:cNvSpPr/>
            <p:nvPr/>
          </p:nvSpPr>
          <p:spPr>
            <a:xfrm>
              <a:off x="1220760" y="35510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2946240" y="355104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095720" y="3551040"/>
              <a:ext cx="214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teeming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220760" y="5786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946240" y="569736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a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097520" y="5709960"/>
              <a:ext cx="167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free of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 tried first but didn’t bring gravy to hot enough temperature.</a:t>
            </a:r>
            <a:endParaRPr b="0" lang="en-US" sz="18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New Question: Is air the “life force”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1864, Louis Past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et out to dismiss the notion that the “life force”, air was needed to generate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sed curved neck on flask so air could get in but organisms woul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oncluded that all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n only come from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his has been tested over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d is now considered a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lled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biogen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asteur"/>
          <p:cNvPicPr/>
          <p:nvPr/>
        </p:nvPicPr>
        <p:blipFill>
          <a:blip r:embed="rId1"/>
          <a:stretch/>
        </p:blipFill>
        <p:spPr>
          <a:xfrm>
            <a:off x="6019920" y="4419720"/>
            <a:ext cx="2705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25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all 4 scientists use good scientific thinking and a controlled exper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pontaneous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point of the “swan neck” Pasteur added to his fl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iogen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1-1 What is scie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 organized way of using evidence to learn about the natural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It also refers to the body of knowledge th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have accumulated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Book Antiqua"/>
              </a:rPr>
              <a:t>It is not </a:t>
            </a: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based on belief or faith, magic, or legend but on actual evidence.  It is concerned with the natural world, not the supernatural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What is Biolog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905120" y="2780280"/>
            <a:ext cx="5790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Biology is a specific field of science that studies lif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5d32"/>
                </a:solidFill>
                <a:latin typeface="Rockwell Extra Bold"/>
              </a:rPr>
              <a:t>Important Skills used When Doing Sc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bserving-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process of gathering information using your senses in a careful, order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nferencing-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making a logical interpretation based on prior knowledge o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Good Scientists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skeptic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They question existing ideas and new hypoth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open-minded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are always willing to consider new ideas when evidence demand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ly on basic natural law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understand that the universe functions as a system of interacting proces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peat experiments: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 through an immense amount of research a certain hypothesis might become so well-supported that scientists consider it a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theory 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(example: biogenes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keep up with new knowledge gained through research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: They continually revise and re-evaluate their ideas.  NOTHING IS “FACT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805d32"/>
                </a:solidFill>
                <a:latin typeface="Book Antiqua"/>
              </a:rPr>
              <a:t>Many questions you have now or will have in the future involve science.  You must understand science to make intelligent decisions about such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How is Science Do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use the scientific method.  When scientists have a question about something in the world they use this method to find an 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the Problem or Question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a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Design an experiment with a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group, constants an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Analyze data/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Conclusion o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1. State the Problem or Ques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have I observ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do I want to kno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2. Resear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as anyone asked this befo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id they discover an answ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ow did they go about looking for an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at other things do I need to understand to answer my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6:17:46Z</dcterms:created>
  <dc:creator>Brian and Megan Gallagher</dc:creator>
  <dc:description/>
  <dc:language>en-US</dc:language>
  <cp:lastModifiedBy>MVanElli</cp:lastModifiedBy>
  <dcterms:modified xsi:type="dcterms:W3CDTF">2010-09-16T20:24:36Z</dcterms:modified>
  <cp:revision>11</cp:revision>
  <dc:subject/>
  <dc:title>The Science of B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